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C4A-6D77-4372-B124-094CE9C8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DE9-BBC2-4BC9-B8E4-14EDA13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D2D-E872-4FB9-8516-99F445EB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FC0-9054-4E04-B333-C6F7E6E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E16-8A1E-48E3-B357-36DD08F1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C23-4B47-4FAC-8314-57D7782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215-3D29-4E7C-89C6-1D26AC06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3B5-BEC9-4948-944B-5E41F05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9FF-1F49-46D4-8725-FA1F921A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3FD-84EF-4240-854F-26F432E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15E-E298-438C-95B5-AE02ADA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D23-1EF5-4A68-BE22-73C4002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F95-1D8A-476A-AB8E-DD3610D55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0"/>
            <a:ext cx="876312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细节决定成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行楷"/>
              </a:rPr>
              <a:t>送给参加中考的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同学们，六月是收获的季节，在这个收获的季节里，你们将迎来人生的第一次重要的考试——中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为了能展示自己的实力，从而在中考中脱颖而出，你们已作了多方面的准备，但应知“细节决定成败”，你们还必须认真阅读并遵照执行老师给你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温馨提示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、考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考试期间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宜大量背书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可以在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午休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或晚上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睡前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用几分钟时间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冥想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把要考科目的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主干知识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在脑海中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梳理一遍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衣着大方整洁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定不要穿校服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不穿拖鞋背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带齐考试用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准考证、书写、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图工具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开卷考试科目的相关资料等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考前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找带队老师领准考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万一出现用品忘带现象，应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及时找带队老师，千万不要回家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掌握好考试时间，中考规定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迟到十五分钟不得进入考场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其中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英语学科不准迟到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应提前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钟到达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考点（其中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第一科提前到达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钟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考好第一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第一科很重要，但考前不宜过早在考场外逗留，应在操场等地有意识的放松，若出现心律过快，手脚发抖，也属正常，可积极调节，如：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深呼吸；也可采用积极心理暗示：我不紧张，没什么可怕的；还可咀嚼口香糖分散紧张情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二、考试期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 充分利用好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开考前的五分钟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拿到试卷后，先认真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填写姓名、考场和考号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然后看试卷说明，看清解题要求、试卷页码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大致了解一下试题的分量，难度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仔细审题、准确答题，题目读两遍，慢审快解（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题目看仔细，想清楚再解答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，最好能做到一次性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先易后难，按题号顺序审题，会一道做一道，一时不会先跳过去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有疑问的、不会的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草纸上做记号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。这样做的好处是：使自己很快进入答题状态；随着答题数的增加心中越来越有数，信心越来越强，难题或许就不难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50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舍车保帅，自我暗示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一套卷低、中、高三种难度都有，会做的题力求全对，避免会而不对、对而不全；对中档题要力拼，尽量多拿分，分分必得；对于自己一点都不会的高难度题要从容镇静、开拓思路，借助中介联想（讲课的情形）把用到的概念公式回忆出来，实在不会要敢于果断放弃，同时还要安慰自己：考试总会遇到难题，我做不出别人也做不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题目不要空，能做多少做多少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实在不会的选择题要大胆猜测；实在不会的问答题，凭感觉做，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两种感觉中相信第一种感觉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及时遗忘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考后立即离开考场回家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不在场外对答案，不看别人脸上的天气预报，做到考一门忘一门，不回忆、不细想、不追究答案；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在已考科目上费时间，集中精力对付下一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胜不骄败不馁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某一科考砸了或不理想时学会安慰自己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每位同学都会有失败，七科中总有一两科不理想，只不过别人没说而已；关键是要总结经验教训，调整考试方法，争取在今后几门考试中把损失夺回来；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当某一科考得特别好，自己感觉飘飘然的时候，告诫自己：我好别人也好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我要谨慎，别一不小心在下一场中失败；总之，要做到胜不骄败不馁，及时调整心态，分分必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632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若有人为因素影响答卷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比如监考老师来回走动、看着你答卷、或者别的同学想让你作弊等，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应该客气地向监考老师提出来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要自觉遵守考场纪律，任何情况下都不能把考卷带出场外；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尊重监考老师和工作人员，爱护公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了解阅卷常规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数理化计算题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般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按步骤给分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考生必须步骤齐全，多做一步会多得一分；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政治、历史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般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按答题要点给分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多答一个要点就多得分。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英语作文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定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要写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-76320"/>
            <a:ext cx="914400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写迅速工整，注意卷面整洁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考试中可以通过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列纲、草算、腹稿、草图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等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规范一下答题内容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若有些题目自觉答案字数较多，试卷上留的空不足，自己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应有计划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的把字写得小一点、密一点，不要等写不完了，再在试卷上乱安排、乱勾画，搞得卷面很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复查是考试过程的重要环节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宁可少做一个没有把握的题，也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要挤出时间把做过的题复查一遍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提前交卷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更不要看到别人交卷就慌了神，也草草了事，要抱定主意：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交你的卷，我答我的题，要把考试规定的时间全部用完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珍惜考场上的分分秒秒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；平时寸金难买寸光阴，考场上千金难买寸光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7632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、考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每科考后都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要记住带回准考证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两科之间自己保管好准考证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而且不要远离考场；两科考完把准考证交给老师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跟老师打招呼后随家长回家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回家的路上不要着急不要催促，一定要注意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同学们，小试卷铺开赛场，大舞台展示才情。希望每位同学能用智慧和细心，使自己成为赛场高手、舞台强者，衷心祝愿每一位同学都能考出理想的成绩！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华文行楷"/>
                <a:ea typeface="华文行楷"/>
              </a:rPr>
              <a:t>河南宏力学校初中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行楷"/>
                <a:ea typeface="华文行楷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华文行楷"/>
                <a:ea typeface="华文行楷"/>
              </a:rPr>
              <a:t>二零零七年六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91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8:58Z</dcterms:modified>
  <cp:revision>2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